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A8E0-E1C4-41AD-9DB1-B6BF6B17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88E7-DB87-41F4-A5C3-847FCBD7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508E-09EA-4C5E-820C-8A20480A2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AEC1-1A09-4F10-BFF0-F5D27DFB1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A08D-63B3-483E-AEEF-79BA43DD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24D1-F231-4C10-98FD-BB918E0E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7C9B-1B1D-465C-89B0-A6F853C7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4643-8B51-42A5-B32A-5C710A5E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41A8-1EE4-4466-92C0-867C1A0A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7676-5BED-425A-AF8E-A071470E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B67D-DCF8-4CB3-B091-99303236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27C8-FBA4-4601-AE90-B3D85305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93CB-5477-48AA-97B7-8CC62ED60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time/blankclocks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enchantedlearning.com/time/blankclocks/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enchantedlearning.com/time/blankclocks/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Problem-Solv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Working Backward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K Foc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4-14C – select or develop an appropriate problem solving plan or strategy, including drawing a picture, looking for a pattern, systematic guessing and checking, acting it out, making a table, working a simpler problem, or working backwards to solve a 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When do I use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Try working backwar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you know the end result of a series of step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you want to know what happened in the begin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What might the problem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Tracy has band practice at 10:15 a.m. It takes her 20 minutes to get from home to practice and 5 minutes to warm up.  What time should she leave home to get to practice on ti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29400" y="5334120"/>
            <a:ext cx="2057400" cy="1143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"/>
              </a:rPr>
              <a:t>Time practice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"/>
              </a:rPr>
              <a:t>10:15 a.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5334120"/>
            <a:ext cx="2057400" cy="1143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"/>
              </a:rPr>
              <a:t>Time Tracy leaves h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erlin Sans FB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05320" y="5334120"/>
            <a:ext cx="2057400" cy="1143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"/>
              </a:rPr>
              <a:t>Time warm-up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38680" y="5867280"/>
            <a:ext cx="838440" cy="152640"/>
          </a:xfrm>
          <a:prstGeom prst="leftArrow">
            <a:avLst>
              <a:gd name="adj1" fmla="val 50000"/>
              <a:gd name="adj2" fmla="val 137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5867280"/>
            <a:ext cx="838080" cy="152640"/>
          </a:xfrm>
          <a:prstGeom prst="leftArrow">
            <a:avLst>
              <a:gd name="adj1" fmla="val 50000"/>
              <a:gd name="adj2" fmla="val 1372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38680" y="548640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erlin Sans FB"/>
              </a:rPr>
              <a:t>5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5486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erlin Sans FB"/>
              </a:rPr>
              <a:t>20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How do I work backward to solve this probl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05800" y="2615040"/>
            <a:ext cx="1856520" cy="2923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</a:rPr>
              <a:t>Time practice sta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</a:rPr>
              <a:t>10:15 a.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2514600"/>
            <a:ext cx="2286000" cy="33526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3352680"/>
              <a:gd name="textAreaBottom" fmla="*/ 3241080 h 3352680"/>
            </a:gdLst>
            <a:ahLst/>
            <a:rect l="textAreaLeft" t="textAreaTop" r="textAreaRight" b="textAreaBottom"/>
            <a:pathLst>
              <a:path w="21600" h="31677">
                <a:moveTo>
                  <a:pt x="3600" y="0"/>
                </a:moveTo>
                <a:arcTo wR="3600" hR="3600" stAng="16200000" swAng="-5400000"/>
                <a:lnTo>
                  <a:pt x="0" y="28077"/>
                </a:lnTo>
                <a:arcTo wR="3600" hR="3600" stAng="10800000" swAng="-5400000"/>
                <a:lnTo>
                  <a:pt x="18000" y="316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</a:rPr>
              <a:t>Time Tracy leaves 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</a:rPr>
              <a:t>10:10 less 20 min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2514600"/>
            <a:ext cx="2133360" cy="3276720"/>
          </a:xfrm>
          <a:custGeom>
            <a:avLst/>
            <a:gdLst>
              <a:gd name="textAreaLeft" fmla="*/ 104040 w 2133360"/>
              <a:gd name="textAreaRight" fmla="*/ 2029320 w 2133360"/>
              <a:gd name="textAreaTop" fmla="*/ 104040 h 3276720"/>
              <a:gd name="textAreaBottom" fmla="*/ 3172680 h 3276720"/>
            </a:gdLst>
            <a:ahLst/>
            <a:rect l="textAreaLeft" t="textAreaTop" r="textAreaRight" b="textAreaBottom"/>
            <a:pathLst>
              <a:path w="21600" h="33174">
                <a:moveTo>
                  <a:pt x="3600" y="0"/>
                </a:moveTo>
                <a:arcTo wR="3600" hR="3600" stAng="16200000" swAng="-5400000"/>
                <a:lnTo>
                  <a:pt x="0" y="29574"/>
                </a:lnTo>
                <a:arcTo wR="3600" hR="3600" stAng="10800000" swAng="-5400000"/>
                <a:lnTo>
                  <a:pt x="18000" y="331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</a:rPr>
              <a:t>Time warm-up sta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</a:rPr>
              <a:t>10:15 less 5 min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715000" y="3886200"/>
            <a:ext cx="838080" cy="457200"/>
          </a:xfrm>
          <a:prstGeom prst="leftArrow">
            <a:avLst>
              <a:gd name="adj1" fmla="val 50000"/>
              <a:gd name="adj2" fmla="val 458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886200"/>
            <a:ext cx="838080" cy="533520"/>
          </a:xfrm>
          <a:prstGeom prst="lef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41280" y="3581280"/>
            <a:ext cx="89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erlin Sans FB"/>
              </a:rPr>
              <a:t>5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4600" y="35053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erlin Sans FB"/>
              </a:rPr>
              <a:t>20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09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tiny" descr="Blank Clo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34320" y="3505320"/>
            <a:ext cx="1736640" cy="1981080"/>
          </a:xfrm>
          <a:prstGeom prst="rect">
            <a:avLst/>
          </a:prstGeom>
          <a:ln w="0">
            <a:noFill/>
          </a:ln>
        </p:spPr>
      </p:pic>
      <p:pic>
        <p:nvPicPr>
          <p:cNvPr id="66" name="tiny" descr="Blank Clock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33920" y="3505320"/>
            <a:ext cx="1736640" cy="1981080"/>
          </a:xfrm>
          <a:prstGeom prst="rect">
            <a:avLst/>
          </a:prstGeom>
          <a:ln w="0">
            <a:noFill/>
          </a:ln>
        </p:spPr>
      </p:pic>
      <p:pic>
        <p:nvPicPr>
          <p:cNvPr id="67" name="tiny" descr="Blank Cloc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3505320"/>
            <a:ext cx="1736640" cy="1981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77240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7467120" y="419076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518148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erlin Sans FB"/>
              </a:rPr>
              <a:t>10   15 a.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4266720" y="419076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29160" y="4052880"/>
            <a:ext cx="542880" cy="2779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67080" y="5181480"/>
            <a:ext cx="99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erlin Sans FB"/>
              </a:rPr>
              <a:t>10   10 a.m.</a:t>
            </a:r>
            <a:r>
              <a:rPr b="0" lang="en-US" sz="1200" spc="-1" strike="noStrike">
                <a:solidFill>
                  <a:srgbClr val="000000"/>
                </a:solidFill>
                <a:latin typeface="Berlin Sans FB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66" idx="3"/>
            <a:endCxn id="66" idx="3"/>
          </p:cNvCxnSpPr>
          <p:nvPr/>
        </p:nvCxnSpPr>
        <p:spPr>
          <a:xfrm>
            <a:off x="5470560" y="4495320"/>
            <a:ext cx="2160" cy="252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7" name=""/>
          <p:cNvSpPr/>
          <p:nvPr/>
        </p:nvSpPr>
        <p:spPr>
          <a:xfrm flipH="1">
            <a:off x="83808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761760" y="411444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295280" y="4114440"/>
            <a:ext cx="533520" cy="2286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51814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5105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51814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erlin Sans FB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erlin Sans FB"/>
              </a:rPr>
              <a:t>9   50 a.m</a:t>
            </a:r>
            <a:r>
              <a:rPr b="0" lang="en-US" sz="1000" spc="-1" strike="noStrike">
                <a:solidFill>
                  <a:srgbClr val="000000"/>
                </a:solidFill>
                <a:latin typeface="Berlin Sans FB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0200" y="59436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erlin Sans FB"/>
              </a:rPr>
              <a:t>What time should she leave home to get to practice on time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erlin Sans FB"/>
              </a:rPr>
              <a:t>Tracy should leave home at 9:50 a.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That’s all there is to it. Now it’s your turn to try.  Remember to start at the end and move backwards until you reach the starting point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02:00:11Z</dcterms:created>
  <dc:creator>Lydia Sanchez</dc:creator>
  <dc:description/>
  <dc:language>en-US</dc:language>
  <cp:lastModifiedBy>Lydia Sanchez</cp:lastModifiedBy>
  <dcterms:modified xsi:type="dcterms:W3CDTF">2010-05-07T00:34:07Z</dcterms:modified>
  <cp:revision>7</cp:revision>
  <dc:subject/>
  <dc:title>Problem-Solving</dc:title>
</cp:coreProperties>
</file>